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11.png" ContentType="image/png"/>
  <Override PartName="/ppt/media/image10.png" ContentType="image/png"/>
  <Override PartName="/ppt/media/image6.jpeg" ContentType="image/jpeg"/>
  <Override PartName="/ppt/media/image7.png" ContentType="image/png"/>
  <Override PartName="/ppt/media/image22.jpeg" ContentType="image/jpeg"/>
  <Override PartName="/ppt/media/image5.jpeg" ContentType="image/jpeg"/>
  <Override PartName="/ppt/media/image8.jpeg" ContentType="image/jpeg"/>
  <Override PartName="/ppt/media/image20.jpeg" ContentType="image/jpeg"/>
  <Override PartName="/ppt/media/image4.png" ContentType="image/png"/>
  <Override PartName="/ppt/media/image21.png" ContentType="image/png"/>
  <Override PartName="/ppt/media/image19.png" ContentType="image/png"/>
  <Override PartName="/ppt/media/image1.png" ContentType="image/png"/>
  <Override PartName="/ppt/media/image18.jpeg" ContentType="image/jpeg"/>
  <Override PartName="/ppt/media/image17.png" ContentType="image/png"/>
  <Override PartName="/ppt/media/image16.png" ContentType="image/png"/>
  <Override PartName="/ppt/media/image15.png" ContentType="image/png"/>
  <Override PartName="/ppt/media/image14.jpeg" ContentType="image/jpeg"/>
  <Override PartName="/ppt/media/image2.png" ContentType="image/png"/>
  <Override PartName="/ppt/media/image9.jpeg" ContentType="image/jpeg"/>
  <Override PartName="/ppt/media/image3.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C16FFD-0F7E-4B4B-B824-8D15D97951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BFF17F-5C1C-4CE2-8C24-2325783395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88D4A1-1B87-4814-B915-635B424AE6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C9FF2B-1F4A-4D7D-BB49-67931D2035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2FB5B4-5066-4850-A054-6E2A4EC9F5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3DB39D-3E5A-4F14-BF2A-2AB93CF1E5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40F328-54E0-44C3-AD00-6EC00A8241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5C7DF2-CAA7-47DA-8A35-BF038C3D45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0AAEAE-689E-464C-87C8-F2BD9BB42D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57D179-4CD4-4835-B129-BF51226B68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7CDA10-902A-4EC5-9057-BB04D017EF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42B855-C849-4F9E-BB2A-BA8F2B3048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7418DA-29EE-4E10-B6C0-CC18746F12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89D1FD-90C9-4167-8482-10F28168F1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053774-9ACF-4C7A-96CC-95045B4E76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59BD1E-9A54-471A-94C8-6916C16B71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D82184-37F4-442B-9BFD-8B93EE2F76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39BB5B9-12D1-4572-8F6F-9EBD91ED266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40AB42-3DCF-44D9-99F3-3A3E113D99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36E88D-1641-4755-912B-66C5DDAB25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ED7614-794E-44FB-9E39-0AD99ACA49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1F1161-AC34-44CD-BDBA-59557DD534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2A090C-6135-41DB-801D-94193B0CE8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3F33C4-F62F-4BD4-9848-A960C9BF86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B86131-874F-458C-A0AD-DFEF323F51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431615-EBB0-4081-A286-29C9B6E7A0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E4281D-C760-4B35-A78C-355D127616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6CCB5D-D270-4F26-9D34-2CEB5A80BE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46D0737-D3E9-4D97-940F-611DBD24E0A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9697B34-31B7-4E00-93E1-DC78C9E949F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47279C2-819B-438A-B359-C72E4CACF38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FCDA278-741B-470D-A701-2ABD6285F4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12C47B-DEF9-4DCC-84B8-116CE79E895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AD4899-1904-4675-A8B4-05F4F6003E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0A8B02-B7A2-4C61-8A2B-54D0239D74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27BF3D9-FCFF-4B40-9E76-DA27BF9053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2984B4-DB9A-46EA-B8E4-E4769B93FF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0BF8FD-671B-48B2-B5EA-5B61CF9401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1770D8-E486-4488-ACB6-4F8A76A059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5B12B2-0140-47DA-888C-AEA32AC6B2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0D8F39-3220-4647-9FB2-E98257649C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B6F97CD-333C-4367-B45D-ADA0EF8CBD1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30ECE31-DB9B-4ABA-BC4C-3651C098EDE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229F451-FF89-4869-9FDA-8EC09EFD6CF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80CCB6-8560-400D-BD05-E05D7F656E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B5ACE9A-200B-4752-8416-BD143719982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5BD858F-352B-429E-93FD-9148AFA428D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EF31412-F65A-4DE6-91F7-29ABD2C49AD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47B3490-A937-48F3-A0EE-575C762EE7F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279AF92-6569-4038-9ADF-3EF65712E7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4EA522-7429-46CD-8BC8-0BDEA27A8C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9D03EC-BCB2-4B00-85C2-DE4DB9F13C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853C42-B5BC-4C85-A136-871AE4AD02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D947B8C-FCE9-4C4B-97C2-BA5853F00D1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87D75AB-13FF-484B-B832-44D0951DCEB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B8DC8D-F2F7-4BE5-BC6F-1FE21855AE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14888F0-3BA7-4BF5-8361-7356FABC9D4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063F0B6-B3F9-4671-83D7-82953DCF3BA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56C82AB-3AA9-4698-9EB2-3A74A0BDFE2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84B9968-3ACC-4C4B-8CB9-5A39BCB5419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33F6235-5FC6-4F5A-A900-B7755DADF31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A3D9611-FCA3-447D-B7D8-82866BF0F59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93D1509-CCDC-4F47-924F-17EF2AB4F98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EE396D-99C8-4C1C-858E-F07080A8AA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8B5A87-320A-4D80-8DE7-559F757618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EC85E1-1433-43B6-9A60-37DE355CE1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F4023D-044F-4815-B397-14228F067E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7467B48-284E-4EE1-AF43-6B8D9F02F21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A8D2ED1-213C-43B1-B930-875CDBE1EC5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93E7F9C-78DD-4926-89F8-F8A4F8A068D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D3E692E-9822-4D19-9713-06DF116E613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A8760C0-ACE9-4080-89D4-BB2EDB6A0F1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B6CD829-F9FC-4EDE-BC4F-FCE33D290B9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952D9BF-CFD9-421C-AF90-1605D9C1695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1F9F976-955E-4C33-BD1B-55DCBF4EE83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100CFE1-7B34-4E3F-AA1E-9537E019983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8399AE-ED05-4F9B-ABCF-99276FC459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C826EF-2985-4DE4-BCAC-19E701CEE5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4911F2-5532-40D9-82E3-BC9883F6A4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D684B6-4423-4702-95FB-C254384335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726228D-5BF8-441A-B895-0303EC70BBD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F9985E5-3EFB-45D7-81B9-371A17FF067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CB9ED26-DEF1-43ED-96A4-1F2B4F1F194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A0F9DC6-0198-4DDE-8304-FE024FA88EE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4841E01-EDCB-41FB-B8FE-4D56DE844B5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DC1B23F-79CF-43E9-93FE-6DCA7F324EA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9E94319-C156-418B-AE8A-278B4F0B1EE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D3A3F55-E1A0-4B12-859F-3759388DC8F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69EA78-C8D2-4422-BA5B-3BD280D0D6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CBB10B1-6E27-4876-B766-02945015636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528DEDC-9650-4DD0-95E3-2FB68749B57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C2E511-CAE1-40D2-A682-7E093E1E46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700183-1780-4547-8AA3-D9EECD1B93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A5EB4A6-1F65-45FA-A65D-79BA398E666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8A26791-661E-49CF-A7A1-257CFC01206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7F1C8C5-334D-4D19-8AC1-BFE2C124651D}"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3D02D-2205-4C80-B3ED-2B357D16E71A}" type="slidenum">
              <a:rPr b="0" lang="en-NZ"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00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Freeform 18"/>
            <p:cNvSpPr/>
            <p:nvPr/>
          </p:nvSpPr>
          <p:spPr>
            <a:xfrm>
              <a:off x="45360" y="5236200"/>
              <a:ext cx="9092880" cy="786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87641-7169-403F-9AE1-BD6DDB5D7AC3}" type="slidenum">
              <a:rPr b="0" lang="en-NZ"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D3C71-8B23-4609-98D6-74F38108A0F6}" type="slidenum">
              <a:rPr b="0" lang="en-NZ"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CF38E-912E-4580-9D68-C987349C19AD}" type="slidenum">
              <a:rPr b="0" lang="en-NZ"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7AE27-1DF9-4ACA-A99F-E218ECB62453}" type="slidenum">
              <a:rPr b="0" lang="en-NZ"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63F98-F2F4-45ED-8F04-728EF0BE32ED}" type="slidenum">
              <a:rPr b="0" lang="en-NZ"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5E711-4D7D-4D75-8685-B9BDFDA5DEE5}" type="slidenum">
              <a:rPr b="0" lang="en-NZ"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15"/>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C8990-EA1B-4833-9242-07E75B12030F}" type="slidenum">
              <a:rPr b="0" lang="en-NZ"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Title 1" descr=""/>
          <p:cNvPicPr/>
          <p:nvPr/>
        </p:nvPicPr>
        <p:blipFill>
          <a:blip r:embed="rId1"/>
          <a:stretch/>
        </p:blipFill>
        <p:spPr>
          <a:xfrm>
            <a:off x="682560" y="1384200"/>
            <a:ext cx="8217000" cy="2206800"/>
          </a:xfrm>
          <a:prstGeom prst="rect">
            <a:avLst/>
          </a:prstGeom>
          <a:ln w="0">
            <a:noFill/>
          </a:ln>
        </p:spPr>
      </p:pic>
      <p:sp>
        <p:nvSpPr>
          <p:cNvPr id="371"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1faecd"/>
                </a:solidFill>
                <a:latin typeface="Lucida Sans Unicode"/>
              </a:rPr>
              <a:t>By: Sophia and Lexi</a:t>
            </a:r>
            <a:endParaRPr b="0" lang="en-US" sz="2700" spc="-1" strike="noStrike">
              <a:solidFill>
                <a:srgbClr val="000000"/>
              </a:solidFill>
              <a:latin typeface="Lucida Sans Unicode"/>
            </a:endParaRPr>
          </a:p>
        </p:txBody>
      </p:sp>
      <p:pic>
        <p:nvPicPr>
          <p:cNvPr id="372" name="Picture 2" descr="http://kookaburra.weekendcrash.com/wp-content/uploads/neuschwanstein-castle.jpg"/>
          <p:cNvPicPr/>
          <p:nvPr/>
        </p:nvPicPr>
        <p:blipFill>
          <a:blip r:embed="rId2"/>
          <a:stretch/>
        </p:blipFill>
        <p:spPr>
          <a:xfrm>
            <a:off x="285840" y="2286000"/>
            <a:ext cx="4190760" cy="2886120"/>
          </a:xfrm>
          <a:prstGeom prst="rect">
            <a:avLst/>
          </a:prstGeom>
          <a:ln w="0">
            <a:noFill/>
          </a:ln>
        </p:spPr>
      </p:pic>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3" name="Content Placeholder 3" descr="lalala.jpg"/>
          <p:cNvPicPr/>
          <p:nvPr/>
        </p:nvPicPr>
        <p:blipFill>
          <a:blip r:embed="rId1"/>
          <a:srcRect l="13426" t="14083" r="20947" b="20286"/>
          <a:stretch/>
        </p:blipFill>
        <p:spPr>
          <a:xfrm>
            <a:off x="2643120" y="1785960"/>
            <a:ext cx="6286680" cy="3929040"/>
          </a:xfrm>
          <a:prstGeom prst="rect">
            <a:avLst/>
          </a:prstGeom>
          <a:ln w="0">
            <a:noFill/>
          </a:ln>
        </p:spPr>
      </p:pic>
      <p:pic>
        <p:nvPicPr>
          <p:cNvPr id="374" name="Title 2" descr=""/>
          <p:cNvPicPr/>
          <p:nvPr/>
        </p:nvPicPr>
        <p:blipFill>
          <a:blip r:embed="rId2"/>
          <a:stretch/>
        </p:blipFill>
        <p:spPr>
          <a:xfrm>
            <a:off x="195120" y="268200"/>
            <a:ext cx="8498160" cy="1158840"/>
          </a:xfrm>
          <a:prstGeom prst="rect">
            <a:avLst/>
          </a:prstGeom>
          <a:ln w="0">
            <a:noFill/>
          </a:ln>
        </p:spPr>
      </p:pic>
      <p:sp>
        <p:nvSpPr>
          <p:cNvPr id="375" name="TextBox 4"/>
          <p:cNvSpPr/>
          <p:nvPr/>
        </p:nvSpPr>
        <p:spPr>
          <a:xfrm>
            <a:off x="214200" y="1785960"/>
            <a:ext cx="221472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f0"/>
                </a:solidFill>
                <a:latin typeface="Comic Sans MS"/>
              </a:rPr>
              <a:t>First of all we had to figure out how we were going to do the basic shape.</a:t>
            </a:r>
            <a:endParaRPr b="0" lang="en-US" sz="1800" spc="-1" strike="noStrike">
              <a:solidFill>
                <a:srgbClr val="000000"/>
              </a:solidFill>
              <a:latin typeface="Arial"/>
            </a:endParaRPr>
          </a:p>
          <a:p>
            <a:pPr>
              <a:lnSpc>
                <a:spcPct val="100000"/>
              </a:lnSpc>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f0"/>
                </a:solidFill>
                <a:latin typeface="Comic Sans MS"/>
              </a:rPr>
              <a:t>After we had done that we had to push and pull our shape until it had taken some form to the Neuschwanstein Castle</a:t>
            </a:r>
            <a:endParaRPr b="0" lang="en-US" sz="1800" spc="-1" strike="noStrike">
              <a:solidFill>
                <a:srgbClr val="000000"/>
              </a:solidFill>
              <a:latin typeface="Arial"/>
            </a:endParaRPr>
          </a:p>
        </p:txBody>
      </p:sp>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6" name="Title 2" descr=""/>
          <p:cNvPicPr/>
          <p:nvPr/>
        </p:nvPicPr>
        <p:blipFill>
          <a:blip r:embed="rId1"/>
          <a:stretch/>
        </p:blipFill>
        <p:spPr>
          <a:xfrm>
            <a:off x="195120" y="268200"/>
            <a:ext cx="8498160" cy="1158840"/>
          </a:xfrm>
          <a:prstGeom prst="rect">
            <a:avLst/>
          </a:prstGeom>
          <a:ln w="0">
            <a:noFill/>
          </a:ln>
        </p:spPr>
      </p:pic>
      <p:pic>
        <p:nvPicPr>
          <p:cNvPr id="377" name="Picture 2" descr="C:\Users\19954\AppData\Local\Microsoft\Windows\Temporary Internet Files\Content.Outlook\U56V8A3A\Our Progress.jpg"/>
          <p:cNvPicPr/>
          <p:nvPr/>
        </p:nvPicPr>
        <p:blipFill>
          <a:blip r:embed="rId2"/>
          <a:stretch/>
        </p:blipFill>
        <p:spPr>
          <a:xfrm>
            <a:off x="2357280" y="1285920"/>
            <a:ext cx="6599520" cy="4525920"/>
          </a:xfrm>
          <a:prstGeom prst="rect">
            <a:avLst/>
          </a:prstGeom>
          <a:ln w="0">
            <a:noFill/>
          </a:ln>
        </p:spPr>
      </p:pic>
      <p:sp>
        <p:nvSpPr>
          <p:cNvPr id="378" name="TextBox 6"/>
          <p:cNvSpPr/>
          <p:nvPr/>
        </p:nvSpPr>
        <p:spPr>
          <a:xfrm>
            <a:off x="0" y="1357200"/>
            <a:ext cx="221472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f0"/>
                </a:solidFill>
                <a:latin typeface="Comic Sans MS"/>
              </a:rPr>
              <a:t> </a:t>
            </a:r>
            <a:r>
              <a:rPr b="0" lang="en-US" sz="1800" spc="-1" strike="noStrike">
                <a:solidFill>
                  <a:srgbClr val="00b0f0"/>
                </a:solidFill>
                <a:latin typeface="Comic Sans MS"/>
              </a:rPr>
              <a:t>After we had completed the base shape we did the roof</a:t>
            </a:r>
            <a:endParaRPr b="0" lang="en-US" sz="1800" spc="-1" strike="noStrike">
              <a:solidFill>
                <a:srgbClr val="000000"/>
              </a:solidFill>
              <a:latin typeface="Arial"/>
            </a:endParaRPr>
          </a:p>
          <a:p>
            <a:pPr>
              <a:lnSpc>
                <a:spcPct val="100000"/>
              </a:lnSpc>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f0"/>
                </a:solidFill>
                <a:latin typeface="Comic Sans MS"/>
              </a:rPr>
              <a:t> </a:t>
            </a:r>
            <a:r>
              <a:rPr b="0" lang="en-US" sz="1800" spc="-1" strike="noStrike">
                <a:solidFill>
                  <a:srgbClr val="00b0f0"/>
                </a:solidFill>
                <a:latin typeface="Comic Sans MS"/>
              </a:rPr>
              <a:t>We weren't sure how we could make the turret and pole look real so we got an image from 3D warehouse</a:t>
            </a:r>
            <a:endParaRPr b="0" lang="en-US" sz="1800" spc="-1" strike="noStrike">
              <a:solidFill>
                <a:srgbClr val="000000"/>
              </a:solidFill>
              <a:latin typeface="Arial"/>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9" name="Title 2" descr=""/>
          <p:cNvPicPr/>
          <p:nvPr/>
        </p:nvPicPr>
        <p:blipFill>
          <a:blip r:embed="rId1"/>
          <a:stretch/>
        </p:blipFill>
        <p:spPr>
          <a:xfrm>
            <a:off x="195120" y="268200"/>
            <a:ext cx="8498160" cy="1158840"/>
          </a:xfrm>
          <a:prstGeom prst="rect">
            <a:avLst/>
          </a:prstGeom>
          <a:ln w="0">
            <a:noFill/>
          </a:ln>
        </p:spPr>
      </p:pic>
      <p:pic>
        <p:nvPicPr>
          <p:cNvPr id="380" name="Picture 1" descr="C:\Users\19954\AppData\Local\Microsoft\Windows\Temporary Internet Files\Content.Outlook\U56V8A3A\Our progress2.jpg"/>
          <p:cNvPicPr/>
          <p:nvPr/>
        </p:nvPicPr>
        <p:blipFill>
          <a:blip r:embed="rId2"/>
          <a:stretch/>
        </p:blipFill>
        <p:spPr>
          <a:xfrm>
            <a:off x="3143160" y="1285920"/>
            <a:ext cx="5835600" cy="4525920"/>
          </a:xfrm>
          <a:prstGeom prst="rect">
            <a:avLst/>
          </a:prstGeom>
          <a:ln w="0">
            <a:noFill/>
          </a:ln>
        </p:spPr>
      </p:pic>
      <p:sp>
        <p:nvSpPr>
          <p:cNvPr id="381" name="TextBox 4"/>
          <p:cNvSpPr/>
          <p:nvPr/>
        </p:nvSpPr>
        <p:spPr>
          <a:xfrm>
            <a:off x="285840" y="1428840"/>
            <a:ext cx="24289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f0"/>
                </a:solidFill>
                <a:latin typeface="Comic Sans MS"/>
              </a:rPr>
              <a:t> </a:t>
            </a:r>
            <a:r>
              <a:rPr b="0" lang="en-US" sz="1800" spc="-1" strike="noStrike">
                <a:solidFill>
                  <a:srgbClr val="00b0f0"/>
                </a:solidFill>
                <a:latin typeface="Comic Sans MS"/>
              </a:rPr>
              <a:t>We then had to do the roof to the other half of the building, this part we had trouble with because we couldn’t get the roof to go up after we did the line. We solved this problem </a:t>
            </a:r>
            <a:r>
              <a:rPr b="0" lang="en-US" sz="1800" spc="-1" strike="noStrike">
                <a:solidFill>
                  <a:srgbClr val="00b0f0"/>
                </a:solidFill>
                <a:latin typeface="Wingdings"/>
                <a:ea typeface="Wingdings"/>
              </a:rPr>
              <a:t></a:t>
            </a:r>
            <a:endParaRPr b="0" lang="en-US" sz="1800" spc="-1" strike="noStrike">
              <a:solidFill>
                <a:srgbClr val="000000"/>
              </a:solidFill>
              <a:latin typeface="Arial"/>
            </a:endParaRPr>
          </a:p>
        </p:txBody>
      </p:sp>
    </p:spTree>
  </p:cSld>
  <p:transition>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457200" y="1481040"/>
            <a:ext cx="8229600" cy="452592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f0"/>
                </a:solidFill>
                <a:latin typeface="Comic Sans MS"/>
              </a:rPr>
              <a:t>After we had done </a:t>
            </a:r>
            <a:endParaRPr b="0" lang="en-US" sz="18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f0"/>
                </a:solidFill>
                <a:latin typeface="Comic Sans MS"/>
              </a:rPr>
              <a:t>The roof to one part of</a:t>
            </a:r>
            <a:endParaRPr b="0" lang="en-US" sz="18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f0"/>
                </a:solidFill>
                <a:latin typeface="Comic Sans MS"/>
              </a:rPr>
              <a:t>the building we had </a:t>
            </a:r>
            <a:endParaRPr b="0" lang="en-US" sz="18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f0"/>
                </a:solidFill>
                <a:latin typeface="Comic Sans MS"/>
              </a:rPr>
              <a:t>to do the roof to the </a:t>
            </a:r>
            <a:endParaRPr b="0" lang="en-US" sz="18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f0"/>
                </a:solidFill>
                <a:latin typeface="Comic Sans MS"/>
              </a:rPr>
              <a:t>other half of the</a:t>
            </a:r>
            <a:endParaRPr b="0" lang="en-US" sz="18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f0"/>
                </a:solidFill>
                <a:latin typeface="Comic Sans MS"/>
              </a:rPr>
              <a:t> </a:t>
            </a:r>
            <a:r>
              <a:rPr b="0" lang="en-US" sz="1800" spc="-1" strike="noStrike">
                <a:solidFill>
                  <a:srgbClr val="00b0f0"/>
                </a:solidFill>
                <a:latin typeface="Comic Sans MS"/>
              </a:rPr>
              <a:t>building and then we </a:t>
            </a:r>
            <a:endParaRPr b="0" lang="en-US" sz="18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f0"/>
                </a:solidFill>
                <a:latin typeface="Comic Sans MS"/>
              </a:rPr>
              <a:t>to join the two roofs </a:t>
            </a:r>
            <a:endParaRPr b="0" lang="en-US" sz="18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f0"/>
                </a:solidFill>
                <a:latin typeface="Comic Sans MS"/>
              </a:rPr>
              <a:t>because they were at </a:t>
            </a:r>
            <a:endParaRPr b="0" lang="en-US" sz="18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f0"/>
                </a:solidFill>
                <a:latin typeface="Comic Sans MS"/>
              </a:rPr>
              <a:t>different angles. This </a:t>
            </a:r>
            <a:endParaRPr b="0" lang="en-US" sz="18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f0"/>
                </a:solidFill>
                <a:latin typeface="Comic Sans MS"/>
              </a:rPr>
              <a:t>was difficult because </a:t>
            </a:r>
            <a:endParaRPr b="0" lang="en-US" sz="18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f0"/>
                </a:solidFill>
                <a:latin typeface="Comic Sans MS"/>
              </a:rPr>
              <a:t>the roof had to join at </a:t>
            </a:r>
            <a:endParaRPr b="0" lang="en-US" sz="18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f0"/>
                </a:solidFill>
                <a:latin typeface="Comic Sans MS"/>
              </a:rPr>
              <a:t>two angles</a:t>
            </a:r>
            <a:endParaRPr b="0" lang="en-US" sz="18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383" name="Title 2" descr=""/>
          <p:cNvPicPr/>
          <p:nvPr/>
        </p:nvPicPr>
        <p:blipFill>
          <a:blip r:embed="rId1"/>
          <a:stretch/>
        </p:blipFill>
        <p:spPr>
          <a:xfrm>
            <a:off x="195120" y="268200"/>
            <a:ext cx="8498160" cy="1158840"/>
          </a:xfrm>
          <a:prstGeom prst="rect">
            <a:avLst/>
          </a:prstGeom>
          <a:ln w="0">
            <a:noFill/>
          </a:ln>
        </p:spPr>
      </p:pic>
      <p:pic>
        <p:nvPicPr>
          <p:cNvPr id="384" name="Picture 3" descr=""/>
          <p:cNvPicPr/>
          <p:nvPr/>
        </p:nvPicPr>
        <p:blipFill>
          <a:blip r:embed="rId2"/>
          <a:stretch/>
        </p:blipFill>
        <p:spPr>
          <a:xfrm>
            <a:off x="3143160" y="1357200"/>
            <a:ext cx="5735880" cy="3586320"/>
          </a:xfrm>
          <a:prstGeom prst="rect">
            <a:avLst/>
          </a:prstGeom>
          <a:ln w="0">
            <a:noFill/>
          </a:ln>
        </p:spPr>
      </p:pic>
    </p:spTree>
  </p:cSld>
  <p:transition>
    <p:split dir="out"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0" y="1643040"/>
            <a:ext cx="8229600" cy="452592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f0"/>
                </a:solidFill>
                <a:latin typeface="Comic Sans MS"/>
              </a:rPr>
              <a:t>After we joined the </a:t>
            </a:r>
            <a:endParaRPr b="0" lang="en-US" sz="18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f0"/>
                </a:solidFill>
                <a:latin typeface="Comic Sans MS"/>
              </a:rPr>
              <a:t>roof at the two different</a:t>
            </a:r>
            <a:endParaRPr b="0" lang="en-US" sz="18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f0"/>
                </a:solidFill>
                <a:latin typeface="Comic Sans MS"/>
              </a:rPr>
              <a:t> </a:t>
            </a:r>
            <a:r>
              <a:rPr b="0" lang="en-US" sz="1800" spc="-1" strike="noStrike">
                <a:solidFill>
                  <a:srgbClr val="00b0f0"/>
                </a:solidFill>
                <a:latin typeface="Comic Sans MS"/>
              </a:rPr>
              <a:t>angles we Uploaded the </a:t>
            </a:r>
            <a:endParaRPr b="0" lang="en-US" sz="18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f0"/>
                </a:solidFill>
                <a:latin typeface="Comic Sans MS"/>
              </a:rPr>
              <a:t>extra part to the Castle </a:t>
            </a:r>
            <a:endParaRPr b="0" lang="en-US" sz="18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f0"/>
                </a:solidFill>
                <a:latin typeface="Comic Sans MS"/>
              </a:rPr>
              <a:t>we uploaded the windows</a:t>
            </a:r>
            <a:endParaRPr b="0" lang="en-US" sz="18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f0"/>
                </a:solidFill>
                <a:latin typeface="Comic Sans MS"/>
              </a:rPr>
              <a:t>To go around our castle.</a:t>
            </a:r>
            <a:endParaRPr b="0" lang="en-US" sz="18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386" name="Title 2" descr=""/>
          <p:cNvPicPr/>
          <p:nvPr/>
        </p:nvPicPr>
        <p:blipFill>
          <a:blip r:embed="rId1"/>
          <a:stretch/>
        </p:blipFill>
        <p:spPr>
          <a:xfrm>
            <a:off x="195120" y="268200"/>
            <a:ext cx="8498160" cy="1158840"/>
          </a:xfrm>
          <a:prstGeom prst="rect">
            <a:avLst/>
          </a:prstGeom>
          <a:ln w="0">
            <a:noFill/>
          </a:ln>
        </p:spPr>
      </p:pic>
      <p:pic>
        <p:nvPicPr>
          <p:cNvPr id="387" name="Picture 2" descr="C:\Users\19954\AppData\Local\Microsoft\Windows\Temporary Internet Files\Content.Outlook\U56V8A3A\Step 5.jpg"/>
          <p:cNvPicPr/>
          <p:nvPr/>
        </p:nvPicPr>
        <p:blipFill>
          <a:blip r:embed="rId2"/>
          <a:srcRect l="7030" t="0" r="53125" b="50002"/>
          <a:stretch/>
        </p:blipFill>
        <p:spPr>
          <a:xfrm>
            <a:off x="3071880" y="1571760"/>
            <a:ext cx="5556240" cy="4357440"/>
          </a:xfrm>
          <a:prstGeom prst="rect">
            <a:avLst/>
          </a:prstGeom>
          <a:ln w="0">
            <a:noFill/>
          </a:ln>
        </p:spPr>
      </p:pic>
    </p:spTree>
  </p:cSld>
  <p:transition>
    <p:newsflash/>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457200" y="1481040"/>
            <a:ext cx="8229600" cy="452592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f0"/>
                </a:solidFill>
                <a:latin typeface="Comic Sans MS"/>
              </a:rPr>
              <a:t>After uploading the windows</a:t>
            </a:r>
            <a:endParaRPr b="0" lang="en-US" sz="18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f0"/>
                </a:solidFill>
                <a:latin typeface="Comic Sans MS"/>
              </a:rPr>
              <a:t>We put in some hand drawn ones </a:t>
            </a:r>
            <a:endParaRPr b="0" lang="en-US" sz="18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f0"/>
                </a:solidFill>
                <a:latin typeface="Comic Sans MS"/>
              </a:rPr>
              <a:t>And copy and pasted them</a:t>
            </a:r>
            <a:endParaRPr b="0" lang="en-US" sz="18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f0"/>
                </a:solidFill>
                <a:latin typeface="Comic Sans MS"/>
              </a:rPr>
              <a:t>Which took a while because</a:t>
            </a:r>
            <a:endParaRPr b="0" lang="en-US" sz="18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f0"/>
                </a:solidFill>
                <a:latin typeface="Comic Sans MS"/>
              </a:rPr>
              <a:t>We had to make sure they</a:t>
            </a:r>
            <a:endParaRPr b="0" lang="en-US" sz="18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f0"/>
                </a:solidFill>
                <a:latin typeface="Comic Sans MS"/>
              </a:rPr>
              <a:t>Were evenly spaced apart</a:t>
            </a:r>
            <a:endParaRPr b="0" lang="en-US" sz="1800" spc="-1" strike="noStrike">
              <a:solidFill>
                <a:srgbClr val="000000"/>
              </a:solidFill>
              <a:latin typeface="Lucida Sans Unicode"/>
            </a:endParaRPr>
          </a:p>
        </p:txBody>
      </p:sp>
      <p:pic>
        <p:nvPicPr>
          <p:cNvPr id="389" name="Title 2" descr=""/>
          <p:cNvPicPr/>
          <p:nvPr/>
        </p:nvPicPr>
        <p:blipFill>
          <a:blip r:embed="rId1"/>
          <a:stretch/>
        </p:blipFill>
        <p:spPr>
          <a:xfrm>
            <a:off x="195120" y="268200"/>
            <a:ext cx="8498160" cy="1158840"/>
          </a:xfrm>
          <a:prstGeom prst="rect">
            <a:avLst/>
          </a:prstGeom>
          <a:ln w="0">
            <a:noFill/>
          </a:ln>
        </p:spPr>
      </p:pic>
      <p:pic>
        <p:nvPicPr>
          <p:cNvPr id="390" name="Picture 3" descr="C:\Users\19954\AppData\Local\Microsoft\Windows\Temporary Internet Files\Content.Outlook\U56V8A3A\Our progress (4).jpg"/>
          <p:cNvPicPr/>
          <p:nvPr/>
        </p:nvPicPr>
        <p:blipFill>
          <a:blip r:embed="rId2"/>
          <a:srcRect l="0" t="0" r="7766" b="0"/>
          <a:stretch/>
        </p:blipFill>
        <p:spPr>
          <a:xfrm>
            <a:off x="3571920" y="2143080"/>
            <a:ext cx="5429160" cy="3678120"/>
          </a:xfrm>
          <a:prstGeom prst="rect">
            <a:avLst/>
          </a:prstGeom>
          <a:ln w="0">
            <a:noFill/>
          </a:ln>
        </p:spPr>
      </p:pic>
    </p:spTree>
  </p:cSld>
  <p:transition>
    <p:strips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457200" y="1481040"/>
            <a:ext cx="8229600" cy="452592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f0"/>
                </a:solidFill>
                <a:latin typeface="Comic Sans MS"/>
              </a:rPr>
              <a:t>After all our hard efforts on</a:t>
            </a:r>
            <a:endParaRPr b="0" lang="en-US" sz="18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f0"/>
                </a:solidFill>
                <a:latin typeface="Comic Sans MS"/>
              </a:rPr>
              <a:t>The Neuschwanstein Castle in </a:t>
            </a:r>
            <a:endParaRPr b="0" lang="en-US" sz="18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f0"/>
                </a:solidFill>
                <a:latin typeface="Comic Sans MS"/>
              </a:rPr>
              <a:t>Germany we have finally finished </a:t>
            </a:r>
            <a:endParaRPr b="0" lang="en-US" sz="18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f0"/>
                </a:solidFill>
                <a:latin typeface="Comic Sans MS"/>
              </a:rPr>
              <a:t>With our castle looking like </a:t>
            </a:r>
            <a:endParaRPr b="0" lang="en-US" sz="18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f0"/>
                </a:solidFill>
                <a:latin typeface="Comic Sans MS"/>
              </a:rPr>
              <a:t>This ----------------------&gt;</a:t>
            </a:r>
            <a:endParaRPr b="0" lang="en-US" sz="1800" spc="-1" strike="noStrike">
              <a:solidFill>
                <a:srgbClr val="000000"/>
              </a:solidFill>
              <a:latin typeface="Lucida Sans Unicode"/>
            </a:endParaRPr>
          </a:p>
        </p:txBody>
      </p:sp>
      <p:pic>
        <p:nvPicPr>
          <p:cNvPr id="392" name="Title 2" descr=""/>
          <p:cNvPicPr/>
          <p:nvPr/>
        </p:nvPicPr>
        <p:blipFill>
          <a:blip r:embed="rId1"/>
          <a:stretch/>
        </p:blipFill>
        <p:spPr>
          <a:xfrm>
            <a:off x="195120" y="268200"/>
            <a:ext cx="8498160" cy="1158840"/>
          </a:xfrm>
          <a:prstGeom prst="rect">
            <a:avLst/>
          </a:prstGeom>
          <a:ln w="0">
            <a:noFill/>
          </a:ln>
        </p:spPr>
      </p:pic>
      <p:pic>
        <p:nvPicPr>
          <p:cNvPr id="393" name="Picture 3" descr="Finished!!!.jpg"/>
          <p:cNvPicPr/>
          <p:nvPr/>
        </p:nvPicPr>
        <p:blipFill>
          <a:blip r:embed="rId2"/>
          <a:srcRect l="6251" t="8749" r="35158" b="50002"/>
          <a:stretch/>
        </p:blipFill>
        <p:spPr>
          <a:xfrm>
            <a:off x="2674800" y="3214800"/>
            <a:ext cx="6469200" cy="2846160"/>
          </a:xfrm>
          <a:prstGeom prst="rect">
            <a:avLst/>
          </a:prstGeom>
          <a:ln w="0">
            <a:noFill/>
          </a:ln>
        </p:spPr>
      </p:pic>
    </p:spTree>
  </p:cSld>
  <p:transition>
    <p:checke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Content Placeholder 3" descr="Finished!!!.jpg"/>
          <p:cNvPicPr/>
          <p:nvPr/>
        </p:nvPicPr>
        <p:blipFill>
          <a:blip r:embed="rId1"/>
          <a:srcRect l="12050" t="16724" r="35202" b="51316"/>
          <a:stretch/>
        </p:blipFill>
        <p:spPr>
          <a:xfrm>
            <a:off x="52560" y="214200"/>
            <a:ext cx="8958240" cy="5715000"/>
          </a:xfrm>
          <a:prstGeom prst="rect">
            <a:avLst/>
          </a:prstGeom>
          <a:ln w="0">
            <a:noFill/>
          </a:ln>
        </p:spPr>
      </p:pic>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NZ" sz="4100" spc="-1" strike="noStrike">
              <a:solidFill>
                <a:srgbClr val="464646"/>
              </a:solidFill>
              <a:latin typeface="Lucida Sans Unicode"/>
            </a:endParaRPr>
          </a:p>
        </p:txBody>
      </p:sp>
    </p:spTree>
  </p:cSld>
  <p:transition>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9T23:38:30Z</dcterms:created>
  <dc:creator>Diocesan School for Girls</dc:creator>
  <dc:description/>
  <dc:language>en-US</dc:language>
  <cp:lastModifiedBy>Diocesan School for Girls</cp:lastModifiedBy>
  <dcterms:modified xsi:type="dcterms:W3CDTF">2009-09-08T02:48:01Z</dcterms:modified>
  <cp:revision>35</cp:revision>
  <dc:subject/>
  <dc:title>Neuschwanstein Castle in Germany!</dc:title>
</cp:coreProperties>
</file>